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79A29-A81F-45C6-8502-E4C8B9DED0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81160" y="38260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19596-A943-4E5C-9959-149D596870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624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1160" y="3826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6240" y="3826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C74E4-2652-4354-82E7-46BFEE544F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74000" y="167652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67200" y="167652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81160" y="3826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74000" y="3826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67200" y="3826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1EF11-9F81-470F-8F40-4F8D47236D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6240" y="167652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6240" y="167652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81160" y="3826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445FD-CC48-4A9F-9D88-59FB52E83C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624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6240" y="3826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624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1160" y="38260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81160" y="38260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624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81160" y="3826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6240" y="3826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74000" y="167652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67200" y="167652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81160" y="3826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74000" y="3826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67200" y="3826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DE2DA-8EDA-47B3-9168-49026ACEF7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6240" y="167652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D7A74-3C42-49FB-B35D-A3F0641607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A0C86-FAE5-40A5-B4ED-5B23B02163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DB62C-D610-45A6-B9E1-70B3C690AA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6240" y="167652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81160" y="3826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CDF22-3A31-4FFD-B04E-3B8B7EE5D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624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6240" y="3826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FEFDC-4203-4C9D-AFED-EA60E76239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624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1160" y="38260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B44B9-76D8-451D-A672-F9CDCCF335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ackgroundgreenre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6320" y="6457680"/>
            <a:ext cx="38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AE55-9A2A-49AC-9B42-EE8259FAE3F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e67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" name="Picture 7" descr="frameroundedcornergree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thinkexist.com/quotes/chinese_proverbs/" TargetMode="External"/><Relationship Id="rId2" Type="http://schemas.openxmlformats.org/officeDocument/2006/relationships/hyperlink" Target="http://thinkexist.com/quotes/chinese_proverbs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2202480" y="50004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imes New Roman"/>
              </a:rPr>
              <a:t>Факултет медицинских наука у Крагујевц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imes New Roman"/>
              </a:rPr>
              <a:t>Интегрисане академске студије фармациј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" name="Picture 5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4050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324000" y="1989000"/>
            <a:ext cx="8381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МОДУЛ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: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9900"/>
                </a:solidFill>
                <a:latin typeface="Times New Roman"/>
              </a:rPr>
              <a:t>Основе вештине комуникациј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835280" y="3357720"/>
            <a:ext cx="5545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9900"/>
                </a:solidFill>
                <a:latin typeface="Times New Roman"/>
              </a:rPr>
              <a:t>4. наставна јединица (четврта недеља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Вештина вербалне и писане комуникациј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5346360" y="5997600"/>
            <a:ext cx="332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Проф. др Мирјана Јовановић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Verdana"/>
              </a:rPr>
              <a:t>Пример за емпатичко слушање</a:t>
            </a:r>
            <a:r>
              <a:rPr b="1" lang="en-US" sz="3400" spc="-1" strike="noStrike">
                <a:solidFill>
                  <a:srgbClr val="333399"/>
                </a:solidFill>
                <a:latin typeface="Verdana"/>
              </a:rPr>
              <a:t> …</a:t>
            </a:r>
            <a:endParaRPr b="0" lang="en-US" sz="3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 путу ка кући,оклизнули сте се и пали,при чему сте повредили леђа.Посетили сте свог докто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аш доктор не дели ваша осећањ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н не одбације нити се руга вашим осећањима,напротив,он их препознаје и третира ваше повреде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вде,нема “дељења” емоција,већ препознавања емоција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Verdana"/>
              </a:rPr>
              <a:t>За ефикасну</a:t>
            </a:r>
            <a:r>
              <a:rPr b="1" lang="en-US" sz="3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Verdana"/>
              </a:rPr>
              <a:t>вербалну комуникацију</a:t>
            </a:r>
            <a:r>
              <a:rPr b="1" lang="en-US" sz="3400" spc="-1" strike="noStrike">
                <a:solidFill>
                  <a:srgbClr val="0033cc"/>
                </a:solidFill>
                <a:latin typeface="Verdana"/>
              </a:rPr>
              <a:t>…</a:t>
            </a:r>
            <a:endParaRPr b="0" lang="en-US" sz="3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еба да развијемо своју способност емпатичког  слуш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ако то радим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Пре свега,потребно  је да препознамо параметре који чине емпатичко слушање,када оцењујемо нечије вербалне 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Параметри евалуације…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60020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6080" indent="-226080">
              <a:lnSpc>
                <a:spcPct val="90000"/>
              </a:lnSpc>
              <a:spcBef>
                <a:spcPts val="1624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Брзин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. Број речи у минут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624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Јасноћ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ако је “слушљив” &amp; и без дисторзиј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624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згово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начин исказивања мис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624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Фамилијарност са изразим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..разумевање појмова који се корист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624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ауз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коришћење различитих пауза у говор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624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Флуентнос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способност  лаког изражавањ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624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Експресивнос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трансформација идеја у реч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624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адржај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 значање или суштина гово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Вежбе евалуације…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Вежба у читању коју евалуира група студена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ушаоци ће евалуирати онога ко чита- по задатим параметр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и параметри могу се оценити највише оценом 10  изузев “садржаја” који може имати највише оцену 3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ратни резултат ( feedback) представља збир свих поена-тотални збир је 100 (макс. ско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Говор”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‘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Говорити’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 и 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‘говорити добро’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 су две различите ствар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  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Будала може да прича,али мудар човек говори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 ~Ben Johnson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Боље је држати језик за зубима,и можда,бити сматран будалом,него отворити уста и разрешити недоумицу!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 ~Abraham Lincol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Речи које изаберете да би сте нешто рекли,важне су колико и одлука да говорите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 ~непознати аут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Verdana"/>
              </a:rPr>
              <a:t>Говор се састоји из два дела</a:t>
            </a:r>
            <a:r>
              <a:rPr b="1" lang="en-US" sz="3400" spc="-1" strike="noStrike">
                <a:solidFill>
                  <a:srgbClr val="0033cc"/>
                </a:solidFill>
                <a:latin typeface="Verdana"/>
              </a:rPr>
              <a:t>…</a:t>
            </a:r>
            <a:endParaRPr b="0" lang="en-US" sz="3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3900" spc="-1" strike="noStrike">
                <a:solidFill>
                  <a:srgbClr val="333399"/>
                </a:solidFill>
                <a:latin typeface="Arial"/>
              </a:rPr>
              <a:t>“Шта рећи?”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3900" spc="-1" strike="noStrike">
                <a:solidFill>
                  <a:srgbClr val="333399"/>
                </a:solidFill>
                <a:latin typeface="Arial"/>
              </a:rPr>
              <a:t>“Како нешто рећи.”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2govornica.jpg"/>
          <p:cNvPicPr/>
          <p:nvPr/>
        </p:nvPicPr>
        <p:blipFill>
          <a:blip r:embed="rId1"/>
          <a:stretch/>
        </p:blipFill>
        <p:spPr>
          <a:xfrm>
            <a:off x="3124080" y="41911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Verdana"/>
              </a:rPr>
              <a:t>1) </a:t>
            </a:r>
            <a:r>
              <a:rPr b="1" lang="en-US" sz="3600" spc="-1" strike="noStrike">
                <a:solidFill>
                  <a:srgbClr val="333399"/>
                </a:solidFill>
                <a:latin typeface="Verdana"/>
              </a:rPr>
              <a:t>“Шта рећи?”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вој садржаја гов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ви корак је “Brainstorming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едећи корак је изабрати формат презентације/складиштење информ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нални корак је сама презент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komunik crtež.bmp"/>
          <p:cNvPicPr/>
          <p:nvPr/>
        </p:nvPicPr>
        <p:blipFill>
          <a:blip r:embed="rId1"/>
          <a:stretch/>
        </p:blipFill>
        <p:spPr>
          <a:xfrm>
            <a:off x="3200400" y="4572000"/>
            <a:ext cx="2495520" cy="1838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Verdana"/>
              </a:rPr>
              <a:t>Браин Сторминг…</a:t>
            </a:r>
            <a:endParaRPr b="0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6720" indent="-216720">
              <a:lnSpc>
                <a:spcPct val="90000"/>
              </a:lnSpc>
              <a:spcBef>
                <a:spcPts val="1312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Индивидуални  Brainstorming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едставља енглески израз који означава процес настанка идеја и стављања идеја на папир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720" indent="-216720">
              <a:lnSpc>
                <a:spcPct val="90000"/>
              </a:lnSpc>
              <a:spcBef>
                <a:spcPts val="1312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уштина је ставити на папир што више идеј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720" indent="-216720">
              <a:lnSpc>
                <a:spcPct val="90000"/>
              </a:lnSpc>
              <a:spcBef>
                <a:spcPts val="1312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То има две предности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720" indent="-216720">
              <a:lnSpc>
                <a:spcPct val="90000"/>
              </a:lnSpc>
              <a:spcBef>
                <a:spcPts val="1312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.Омогућава нецензурисани проток различитих идеј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720" indent="-216720">
              <a:lnSpc>
                <a:spcPct val="90000"/>
              </a:lnSpc>
              <a:spcBef>
                <a:spcPts val="1312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. Подстиче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стратешку или компаративну евалуацију  идеј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.Када су на папиру,имате могућност рангирања својих идеја по важности и ефикасности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720" indent="-216720">
              <a:lnSpc>
                <a:spcPct val="90000"/>
              </a:lnSpc>
              <a:spcBef>
                <a:spcPts val="1312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Можете компарирати своје идеје,супротставити их и на крају одабрати најбољ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Ставити идеје заједно…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ада када знамо о чему желимо да причамо,потребно је да запишемо идеје у облику који може да буде презентован други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требан нам је одговарајући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Форма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уз чију помоћ можемо представити идеј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о можемо назвати презентацијом или складиштењем идеј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Шта је потребно?</a:t>
            </a:r>
            <a:r>
              <a:rPr b="1" lang="en-US" sz="3600" spc="-1" strike="noStrike">
                <a:solidFill>
                  <a:srgbClr val="ffffcc"/>
                </a:solidFill>
                <a:latin typeface="Verdana"/>
              </a:rPr>
              <a:t>…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3920" indent="-22392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ставимо следеће питање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Да ли заборављамо због нервозе или постајемо нервозни због заборављања?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а продискутујемо ……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пр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Шта ако треба да изговорите азбуку пред аудиторијумом?”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а ли постајете нервозни?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 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чигледно не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ЛИ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162560" cy="16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Verdana"/>
              </a:rPr>
              <a:t>Вештина вербалне и писане комуникације</a:t>
            </a:r>
            <a:endParaRPr b="0" lang="en-US" sz="4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есто мислимо да имати добру комуникацију значи бити добар говорник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Зашто постајемо нервозни?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12040" indent="-21204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ервоза не изазива толико пуно заборавност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ао што…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2040" indent="-21204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Заборављање изазива нервоз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2040" indent="-21204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2040" indent="-21204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Један човек је закључио да је главни узрок Нервоз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управо “заборављање” или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Страх од заборављања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2040" indent="-21204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2040" indent="-21204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ругим речима, нећемо постати нервозни ако поуздано знамо да не можемо заборавити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Verdana"/>
              </a:rPr>
              <a:t>За превенцију заборављања…</a:t>
            </a:r>
            <a:endParaRPr b="0" lang="en-US" sz="3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9880" indent="-2098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Добар систем складиштења подата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9880" indent="-2098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ли…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9880" indent="-2098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Добар повратни сист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9880" indent="-209880">
              <a:lnSpc>
                <a:spcPct val="90000"/>
              </a:lnSpc>
              <a:spcBef>
                <a:spcPts val="1624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9880" indent="-2098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Добар систем складиштења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такође,олакшава слушаоцима разумевање идеја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9880" indent="-2098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9880" indent="-2098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9880" indent="-209880">
              <a:lnSpc>
                <a:spcPct val="90000"/>
              </a:lnSpc>
              <a:spcBef>
                <a:spcPts val="1624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Систем складиштења 1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80800" y="1676520"/>
            <a:ext cx="331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0520" indent="-2005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ТЗ…Увод,тело,закључак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Увод у тему или оно што желиш да каже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Тело-неколико идеја које подржавају  суштину т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Закључак-крај са одговарајућим закључ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Content Placeholder 4" descr="vodič.jpg"/>
          <p:cNvPicPr/>
          <p:nvPr/>
        </p:nvPicPr>
        <p:blipFill>
          <a:blip r:embed="rId1"/>
          <a:stretch/>
        </p:blipFill>
        <p:spPr>
          <a:xfrm>
            <a:off x="5362560" y="1676520"/>
            <a:ext cx="2562120" cy="3886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Систем складиштења 2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Временски оквир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Пошни са Референцом /Податком и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Прошлост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Настави 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еференцом /Податко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Садашњост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јектуј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удућнос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са личним печат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Систем складиштења  3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КДЗ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Шт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 Почети са Крајем/Закључком…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.Како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.Чиме подржавамо Закључак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.Доказ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. Коришћењем примера/студије случаја/статисти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.Закључак С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 Надам се да сам успео да докажем ДА…..(користи закључак с почетка говора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Складиште  4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+ми , -ми, лични печа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Увод 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ми (предности/јаче стран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Настави 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ми (мане/слабост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Дај свој Лични печат заснован на евалуацији за и проти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Verdana"/>
              </a:rPr>
              <a:t>Идем даље ка…. </a:t>
            </a:r>
            <a:r>
              <a:rPr b="1" lang="en-US" sz="3400" spc="-1" strike="noStrike">
                <a:solidFill>
                  <a:srgbClr val="333399"/>
                </a:solidFill>
                <a:latin typeface="Verdana"/>
              </a:rPr>
              <a:t>“Како треба говорити?”</a:t>
            </a:r>
            <a:endParaRPr b="0" lang="en-US" sz="3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180800" y="1676520"/>
            <a:ext cx="331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6080" indent="-226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Говори јасно,ако уопште говориш; урежи сваку реч пре него је пустиш да падне ”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Oliver Wendell Hol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Content Placeholder 4" descr="dete sa rukom.jpg"/>
          <p:cNvPicPr/>
          <p:nvPr/>
        </p:nvPicPr>
        <p:blipFill>
          <a:blip r:embed="rId1"/>
          <a:stretch/>
        </p:blipFill>
        <p:spPr>
          <a:xfrm>
            <a:off x="4995720" y="2862360"/>
            <a:ext cx="3157560" cy="2395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Verdana"/>
              </a:rPr>
              <a:t>2) </a:t>
            </a:r>
            <a:r>
              <a:rPr b="1" lang="en-US" sz="3600" spc="-1" strike="noStrike">
                <a:solidFill>
                  <a:srgbClr val="333399"/>
                </a:solidFill>
                <a:latin typeface="Verdana"/>
              </a:rPr>
              <a:t>“Како треба говорити”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180800" y="1371240"/>
            <a:ext cx="331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8000" indent="-198000"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Водич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98000" indent="-198000">
              <a:lnSpc>
                <a:spcPct val="90000"/>
              </a:lnSpc>
              <a:spcBef>
                <a:spcPts val="1749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рз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000" indent="-198000">
              <a:lnSpc>
                <a:spcPct val="90000"/>
              </a:lnSpc>
              <a:spcBef>
                <a:spcPts val="1749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Јасноћ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000" indent="-198000">
              <a:lnSpc>
                <a:spcPct val="90000"/>
              </a:lnSpc>
              <a:spcBef>
                <a:spcPts val="1749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000" indent="-198000">
              <a:lnSpc>
                <a:spcPct val="90000"/>
              </a:lnSpc>
              <a:spcBef>
                <a:spcPts val="1749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ау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000" indent="-198000">
              <a:lnSpc>
                <a:spcPct val="90000"/>
              </a:lnSpc>
              <a:spcBef>
                <a:spcPts val="1749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амилијарност са израз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000" indent="-198000">
              <a:lnSpc>
                <a:spcPct val="90000"/>
              </a:lnSpc>
              <a:spcBef>
                <a:spcPts val="1749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луент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000" indent="-198000">
              <a:lnSpc>
                <a:spcPct val="90000"/>
              </a:lnSpc>
              <a:spcBef>
                <a:spcPts val="1749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кспресив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000" indent="-198000">
              <a:lnSpc>
                <a:spcPct val="90000"/>
              </a:lnSpc>
              <a:spcBef>
                <a:spcPts val="1749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Content Placeholder 6" descr="veština kom..bmp"/>
          <p:cNvPicPr/>
          <p:nvPr/>
        </p:nvPicPr>
        <p:blipFill>
          <a:blip r:embed="rId1"/>
          <a:stretch/>
        </p:blipFill>
        <p:spPr>
          <a:xfrm>
            <a:off x="4495680" y="1752480"/>
            <a:ext cx="4343400" cy="3810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Брзина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рз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.број речи изговорени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у мину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р.док већина Индијаца изговори о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0 до 180 рп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њихове стране колеге изговор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0 до 120 рп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поравање изговора (мањи број речи у јединици времана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први је корак ка бољем говорништв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Јасноћа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Јасноћ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слушљивос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без дистор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вор би требао да буде довољно 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ас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а би допро до сваког слушаоца.Проценити акустику просториј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асноћа гласа може да се побољша и усаврши редовним вежбам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ofis tok.jpg"/>
          <p:cNvPicPr/>
          <p:nvPr/>
        </p:nvPicPr>
        <p:blipFill>
          <a:blip r:embed="rId1"/>
          <a:stretch/>
        </p:blipFill>
        <p:spPr>
          <a:xfrm>
            <a:off x="3219480" y="4267080"/>
            <a:ext cx="2705040" cy="1828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Ми смо у праву……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ли само  50% у праву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то што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рбална комуникација има још једа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ође веома важан део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ЛУШАЊЕ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Говорити” + “Слушати” = “Вербална комуникација 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Изговор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гово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ка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ома је важан правилан изговор ре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истити  добар речник или радити са тренером на изговору речи и акцен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govor.jpg"/>
          <p:cNvPicPr/>
          <p:nvPr/>
        </p:nvPicPr>
        <p:blipFill>
          <a:blip r:embed="rId1"/>
          <a:stretch/>
        </p:blipFill>
        <p:spPr>
          <a:xfrm>
            <a:off x="1752480" y="3581280"/>
            <a:ext cx="4029120" cy="2971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Паузе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узе…користи различите врсте пау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уза код тач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уза код зар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уза код две тач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уза код узвичн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уза код знака пита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Content Placeholder 9" descr="komunik ofis.jpg"/>
          <p:cNvPicPr/>
          <p:nvPr/>
        </p:nvPicPr>
        <p:blipFill>
          <a:blip r:embed="rId1"/>
          <a:stretch/>
        </p:blipFill>
        <p:spPr>
          <a:xfrm>
            <a:off x="4876920" y="2209680"/>
            <a:ext cx="3022560" cy="2865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Фамилијарност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милијарност...познавање значења речи које користим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ење нових реч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ишћење познатих речи у новом контексту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умети контекст и ситуацију пре поновног читањ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jinjang.jpg"/>
          <p:cNvPicPr/>
          <p:nvPr/>
        </p:nvPicPr>
        <p:blipFill>
          <a:blip r:embed="rId1"/>
          <a:stretch/>
        </p:blipFill>
        <p:spPr>
          <a:xfrm>
            <a:off x="3124080" y="4267080"/>
            <a:ext cx="3505320" cy="2438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Флуентност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луентност…Способност  лаког изражав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ој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луентност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 питање других параметара на свом мес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луентно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указује да је говорник успешно савладао способност јасног и исправног изражавања,укључујући и друге парамет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Експресија…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кспресија…трансформација идеје у реч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о и спољашња манифестација расположења или распореда ре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кспрес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азличитих емоција изражених речима,тоном,убедљивошћу,висином тона и модулациј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mladi.jpg"/>
          <p:cNvPicPr/>
          <p:nvPr/>
        </p:nvPicPr>
        <p:blipFill>
          <a:blip r:embed="rId1"/>
          <a:stretch/>
        </p:blipFill>
        <p:spPr>
          <a:xfrm>
            <a:off x="3352680" y="3962520"/>
            <a:ext cx="261936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Хвала на пажњ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v.komunikacija1.bmp"/>
          <p:cNvPicPr/>
          <p:nvPr/>
        </p:nvPicPr>
        <p:blipFill>
          <a:blip r:embed="rId1"/>
          <a:stretch/>
        </p:blipFill>
        <p:spPr>
          <a:xfrm>
            <a:off x="3048120" y="1219320"/>
            <a:ext cx="2895480" cy="3281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“</a:t>
            </a: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СЛУШАЊЕ”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Већина успешних људи које познајем су они који више слушају него причају</a:t>
            </a: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. (Bernard M.Baru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“</a:t>
            </a:r>
            <a:r>
              <a:rPr b="0" lang="en-US" sz="2400" spc="-1" strike="noStrike" u="sng">
                <a:solidFill>
                  <a:srgbClr val="00cc99"/>
                </a:solidFill>
                <a:uFillTx/>
                <a:latin typeface="Arial"/>
              </a:rPr>
              <a:t>Слушати добро,моћан је извор утицаја на друге,као и говорити добро,и есенцијално је за сваку истинску комуникацију (Кинеска пословица)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”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Ми имамо два ува и једна уста ,тако да можемо двоструко више да слушамо,него да причамо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Врсте слушања</a:t>
            </a:r>
            <a:r>
              <a:rPr b="1" lang="en-US" sz="3600" spc="-1" strike="noStrike">
                <a:solidFill>
                  <a:srgbClr val="333399"/>
                </a:solidFill>
                <a:latin typeface="Verdana"/>
              </a:rPr>
              <a:t>…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39360" y="1752120"/>
            <a:ext cx="7782120" cy="42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оји неколико врста СЛУШАЊ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cc"/>
                </a:solidFill>
                <a:latin typeface="Arial"/>
              </a:rPr>
              <a:t>1.Слушање са захвалношћу</a:t>
            </a:r>
            <a:r>
              <a:rPr b="1" lang="en-US" sz="21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cc"/>
                </a:solidFill>
                <a:latin typeface="Arial"/>
              </a:rPr>
              <a:t>2.Емпатичко слушањ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cc"/>
                </a:solidFill>
                <a:latin typeface="Arial"/>
              </a:rPr>
              <a:t>3.Обимно слушање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cc"/>
                </a:solidFill>
                <a:latin typeface="Arial"/>
              </a:rPr>
              <a:t>4.Критичко слушањ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cc"/>
                </a:solidFill>
                <a:latin typeface="Arial"/>
              </a:rPr>
              <a:t>5.Симпатетичко слушањ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Verdana"/>
              </a:rPr>
              <a:t>У најширем…</a:t>
            </a:r>
            <a:endParaRPr b="0" lang="en-US" sz="3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СЛУШАЊЕ МОЖЕ БИТИ КЛАСИФИКОВАНО КА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Симпатетичко слушањ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Емпатичко слушањ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megafon.jpg"/>
          <p:cNvPicPr/>
          <p:nvPr/>
        </p:nvPicPr>
        <p:blipFill>
          <a:blip r:embed="rId1"/>
          <a:stretch/>
        </p:blipFill>
        <p:spPr>
          <a:xfrm>
            <a:off x="5486400" y="2590920"/>
            <a:ext cx="3076560" cy="2276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Симпатетичко слушање…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симпатетичком слушању стало нам је до друге особе,при чему показујемо своје интересовање на тај начин што обраћамо пуну пажњу и изражавамо своју тугу када је саговорник тужан или срећу,уколико се саговорник раду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угим речима-ради се о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дељењу”-”(sharing)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емоц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devojke.jpg"/>
          <p:cNvPicPr/>
          <p:nvPr/>
        </p:nvPicPr>
        <p:blipFill>
          <a:blip r:embed="rId1"/>
          <a:stretch/>
        </p:blipFill>
        <p:spPr>
          <a:xfrm>
            <a:off x="3124080" y="44956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Verdana"/>
              </a:rPr>
              <a:t>Пример симпатетичког слушања</a:t>
            </a: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…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путу ка кући,оклизнули сте се и пали,при чему сте повредили леђа.Кад сте ушли у кућу,ваши укућани с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саосећали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 ва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и су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поделили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аше осећање повређености па чак и “засузили оком”  ,да би показали своју саосећајн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dete komunikacija.jpg"/>
          <p:cNvPicPr/>
          <p:nvPr/>
        </p:nvPicPr>
        <p:blipFill>
          <a:blip r:embed="rId1"/>
          <a:stretch/>
        </p:blipFill>
        <p:spPr>
          <a:xfrm>
            <a:off x="3581280" y="3962520"/>
            <a:ext cx="1781280" cy="2571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Емпатичко слушање 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…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0760" indent="-230760">
              <a:lnSpc>
                <a:spcPct val="90000"/>
              </a:lnSpc>
              <a:spcBef>
                <a:spcPts val="1312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ада слушамо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емпатичк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идемо иза симпатије, за дубљим разумевањем како се неко други осећ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760" indent="-230760">
              <a:lnSpc>
                <a:spcPct val="90000"/>
              </a:lnSpc>
              <a:spcBef>
                <a:spcPts val="1312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То захтева изврсно разликовање  нијанси и  блиску пажњу када су у питању и назнаке емоционалних сигнала.Када смо заиста емпатични,ми у ствари препознајемо и потврђујемо шта та особа осећ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760" indent="-230760">
              <a:lnSpc>
                <a:spcPct val="90000"/>
              </a:lnSpc>
              <a:spcBef>
                <a:spcPts val="1312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 намери да натерамо друге да изразе дубље делове себе пред нама,такође,треба да демонстрирамо емпатију  и то, сопственим понашањем  и пажљивим слушање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760" indent="-230760">
              <a:lnSpc>
                <a:spcPct val="90000"/>
              </a:lnSpc>
              <a:spcBef>
                <a:spcPts val="1312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ажно је да наше понашање буде такво да охрабри особу да се отвори и изрази своје емоциј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nja</dc:creator>
  <dc:description/>
  <dc:language>en-US</dc:language>
  <cp:lastModifiedBy>Milanče Sin</cp:lastModifiedBy>
  <dcterms:modified xsi:type="dcterms:W3CDTF">2023-02-05T16:14:31Z</dcterms:modified>
  <cp:revision>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